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1D8-39BB-4849-B54F-C7BA3F9A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F83-D898-42E3-B8EB-E74D230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6AC-69F8-4A84-B7E0-AFF28372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691-706F-42F6-9305-471526FE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8BF-AC88-4BC2-899E-ECE4D715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9B2-F1FF-4036-BDDE-6013900B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79A-DAD9-41A9-8A8F-97208FBB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6DB-5EE1-4C17-B9C8-51ED5247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5B9-D4DE-4FD5-8128-6B9F1EA3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8DD-9088-4195-A37F-75DC3F6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EC4-E526-42B7-8DA2-5454215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652-F413-4BCB-AD6A-93D2DF5F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098E-E813-45E8-A610-3C97C174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1  Model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2120" y="1447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hr – came up with the energy levels where the elec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19320" y="2209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stated the lower energy levels were the weakes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move away from nucleus, they get str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219320" y="2895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e proposed an e- could jump between energy levels if 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ed or lost the right amount of energy to do 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600200" y="37339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ight amount of energy needed to move the e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one level to another is called Qua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295280" y="4419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mount of energy an e- gains or loses not always the s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it takes more energy to move e- in the 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than the higher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um Mechan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66680" y="1371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rodinger respo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666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no exact path e-’s take around the nucleus, but there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levels like in Bohr’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066680" y="2666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del determines how much energy an e- can ha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y of finding the e- in various lo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66680" y="3809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- move in orbitals also called atomic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06668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ach energy level has sub-levels within it and each of tho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levels have their ow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rbital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s_orbit.gif"/>
          <p:cNvPicPr/>
          <p:nvPr/>
        </p:nvPicPr>
        <p:blipFill>
          <a:blip r:embed="rId1"/>
          <a:stretch/>
        </p:blipFill>
        <p:spPr>
          <a:xfrm>
            <a:off x="1644480" y="1523880"/>
            <a:ext cx="10512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xy_orbit.gif"/>
          <p:cNvPicPr/>
          <p:nvPr/>
        </p:nvPicPr>
        <p:blipFill>
          <a:blip r:embed="rId2"/>
          <a:stretch/>
        </p:blipFill>
        <p:spPr>
          <a:xfrm>
            <a:off x="1828800" y="3429000"/>
            <a:ext cx="8730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px_orbit.gif"/>
          <p:cNvPicPr/>
          <p:nvPr/>
        </p:nvPicPr>
        <p:blipFill>
          <a:blip r:embed="rId3"/>
          <a:stretch/>
        </p:blipFill>
        <p:spPr>
          <a:xfrm>
            <a:off x="1752480" y="2438280"/>
            <a:ext cx="874800" cy="838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819520" y="1600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sphere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89548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dumbbell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895480" y="3581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bital – clover leaf sha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057400" y="43434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bital – no definit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4-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90720" y="1371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er:  each energy level has a principal energy level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, etc) AND each level has the same number of sublevels as it has energy levels (see notes from last un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762120" y="23623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bau Principle: electrons occupy the orbitals of the low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first (figure 5.7 pg 1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aufbau.jpg"/>
          <p:cNvPicPr/>
          <p:nvPr/>
        </p:nvPicPr>
        <p:blipFill>
          <a:blip r:embed="rId1"/>
          <a:stretch/>
        </p:blipFill>
        <p:spPr>
          <a:xfrm>
            <a:off x="3124080" y="3048120"/>
            <a:ext cx="28195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guide 4-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04920" y="99072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ufbau diagram (principle) can be used to show how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 fill the orbitals of equal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one electron enters each orbital until all the orbit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 one electron with the same spin di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09480" y="274320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uli Exclusion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atomic orbital may describe at most two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:  1 or 2 electrons can occupy an s orbital or a p orbital.  For 2 electrons to occupy the same orbital, they have must have opposite spins (or paired sp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 = property of electrons, may be thought of as clockwise and counter clockwise. (shown by arrow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74674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76960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5335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nd’s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electrons occupy orbitals of the same energy in a way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the number of electrons with the same sp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 as large as 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228600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EX:  3 electrons occupy three orbitals of equal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electrons then pair up and fill each orbi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99072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722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657600" y="3124080"/>
            <a:ext cx="1295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1295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1905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6252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4956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72388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5308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2:28:44Z</dcterms:created>
  <dc:creator>jpak</dc:creator>
  <dc:description/>
  <dc:language>en-US</dc:language>
  <cp:lastModifiedBy>John Pakledinaz</cp:lastModifiedBy>
  <dcterms:modified xsi:type="dcterms:W3CDTF">2009-10-23T18:22:01Z</dcterms:modified>
  <cp:revision>20</cp:revision>
  <dc:subject/>
  <dc:title>Noteguide 4-2 continued</dc:title>
</cp:coreProperties>
</file>